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7.jpeg" ContentType="image/jpeg"/>
  <Override PartName="/ppt/media/image28.wmf" ContentType="image/x-wmf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3.png" ContentType="image/png"/>
  <Override PartName="/ppt/media/image24.png" ContentType="image/png"/>
  <Override PartName="/ppt/media/image18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9.jpeg" ContentType="image/jpeg"/>
  <Override PartName="/ppt/media/image17.png" ContentType="image/png"/>
  <Override PartName="/ppt/media/image15.png" ContentType="image/png"/>
  <Override PartName="/ppt/media/image14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2DF40-A9E8-4BFB-8F71-CA23CB148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46C17-156A-40A4-B539-9D8E27EE0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2B903-C15F-4998-ABB0-B0DF8A7A2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81FA8-B9E6-4515-A04B-D6F634A20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89A1C-F57A-4461-9FDE-49C2C96AD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13E56-488C-44BA-84AB-2FED46821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CA19B-E36E-4137-8F6C-80DB00C50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1E58D-A6E1-41EB-90E8-50F2B403B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30835-C8B7-4DE4-ADC6-60FDFA32C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5AA20-73AC-4406-BCAF-EC84B8FD5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D209D-2C41-4908-9521-E3AF26CA7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C6B0F-DAC1-4BFD-A891-651DD765C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E3CF5-7F77-4310-B1BA-BFA72F561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396ED-2DB7-43A9-9207-F83AFD8AA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7F38D-AB0B-4BBF-ACD1-6FE40D1A6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F1BB7-3425-43B0-A958-3FAB0F242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1B79C-D317-4635-B4C0-DEF362A86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8C960-EA53-4CB4-9A70-EE4AA4CF2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3D8B3-57EB-4729-A07B-D533072A9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203FE-0CBB-45BC-8443-F647097F4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FA5E1-5063-4EAA-9975-46FE7462F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D2616-3AE4-4D65-A5E6-1D128B1C5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DDF36-3FFB-4827-A6F0-870C42DFF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49BC1-2E7A-4211-B299-E15C8376F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F5311-8209-40D6-B2BE-4CF616FCD96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Line 8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8" name="Group 8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49" name="Rectangle 9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" name="Rectangle 10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" name="Rectangle 11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" name="Rectangle 12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3" name="Line 13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4" name="Rectangle 14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2EB5F-58A4-48F4-99F0-666AD864037D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imes New Roman"/>
              </a:rPr>
              <a:t>The Decline of Feudalism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762120" y="3765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son #1 Political Chan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What is the Bubonic Plague?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0" y="1828800"/>
            <a:ext cx="449568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st famous form of Plag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used by a bacterial inf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reads through flea bites (Rarely through the ai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out treatment…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50%-100% Leth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bonic Plague probably started in China or Mongol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day Bubonic Plague is curable with the use of proper antibiotics (3,0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4" descr="bubonic_plague"/>
          <p:cNvPicPr/>
          <p:nvPr/>
        </p:nvPicPr>
        <p:blipFill>
          <a:blip r:embed="rId1"/>
          <a:stretch/>
        </p:blipFill>
        <p:spPr>
          <a:xfrm>
            <a:off x="6095880" y="1752480"/>
            <a:ext cx="2743200" cy="25606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5" descr="Blackrat"/>
          <p:cNvPicPr/>
          <p:nvPr/>
        </p:nvPicPr>
        <p:blipFill>
          <a:blip r:embed="rId2"/>
          <a:stretch/>
        </p:blipFill>
        <p:spPr>
          <a:xfrm>
            <a:off x="4267080" y="4465800"/>
            <a:ext cx="3581640" cy="239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Symptoms of the Bubonic Plague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0" y="182844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lu like sympto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neezing, Aches, and Fatig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wollen lymph gla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mpits, Groin, and Nec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ollen glands develop into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ubo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which eventually rupture and ble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ough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coughing starts the plague has become airbor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in, Bleeding, Decaying of Tissue and Death…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3-7 da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Picture 4" descr="sneeze-k-17"/>
          <p:cNvPicPr/>
          <p:nvPr/>
        </p:nvPicPr>
        <p:blipFill>
          <a:blip r:embed="rId1"/>
          <a:stretch/>
        </p:blipFill>
        <p:spPr>
          <a:xfrm>
            <a:off x="4724280" y="1600200"/>
            <a:ext cx="2971800" cy="19699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" descr="boboues"/>
          <p:cNvPicPr/>
          <p:nvPr/>
        </p:nvPicPr>
        <p:blipFill>
          <a:blip r:embed="rId2"/>
          <a:stretch/>
        </p:blipFill>
        <p:spPr>
          <a:xfrm>
            <a:off x="4267080" y="3962520"/>
            <a:ext cx="1676520" cy="12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The Bubonic Plague spreads to Europe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-360" y="1828800"/>
            <a:ext cx="518148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leas spread along trade rou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read along the Silk Ro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so spread to Europe on shi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rst outbreaks of the Bubonic Plague would occur in port cities and tow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4" descr="map"/>
          <p:cNvPicPr/>
          <p:nvPr/>
        </p:nvPicPr>
        <p:blipFill>
          <a:blip r:embed="rId1"/>
          <a:stretch/>
        </p:blipFill>
        <p:spPr>
          <a:xfrm>
            <a:off x="5181480" y="2438280"/>
            <a:ext cx="3832200" cy="403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Spreading the Plague in Europe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343040" y="1828440"/>
            <a:ext cx="4800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s in modern Turkey and Ita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or sanitation encouraged the spread of the Plag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lague infected rats and fleas feed on garbage, dead animals, and human was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st people did not change their clot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st people did not bath regular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ople did not know what caused the Plague, or how it sp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4" descr="trash"/>
          <p:cNvPicPr/>
          <p:nvPr/>
        </p:nvPicPr>
        <p:blipFill>
          <a:blip r:embed="rId1"/>
          <a:stretch/>
        </p:blipFill>
        <p:spPr>
          <a:xfrm>
            <a:off x="0" y="251460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Impact of the “Black Death”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51920" y="182880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roximately half of the people in China di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4 million Europeans died, about 1/3 of the popu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de and The Economy were destroy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built with an emphasis on Common 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wer shifted from the Nobles to the Common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many people had died that workers were in short supp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ers could demand more money and more r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re people moved away from feudal manors and into towns and cities to look for better opportun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asant rebellions began to break o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imes New Roman"/>
              </a:rPr>
              <a:t>The Decline of Feudalism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762120" y="3765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son #3- The 100 Years War (1337-145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f and On for 116 yea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Background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7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ng of France dies with no success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ng Edward III of England is a distant relative, so he claims the French thr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war was very back and for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tually France would win and the English would be driven out of Fr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Picture 6" descr="http://colorkiddies.com/fantasy/K/KING_01/king_01_clip.gif"/>
          <p:cNvPicPr/>
          <p:nvPr/>
        </p:nvPicPr>
        <p:blipFill>
          <a:blip r:embed="rId1"/>
          <a:stretch/>
        </p:blipFill>
        <p:spPr>
          <a:xfrm>
            <a:off x="3276720" y="3602160"/>
            <a:ext cx="2400120" cy="325584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8" descr="http://www.collaborativepractice.com/images/flag_england.png"/>
          <p:cNvPicPr/>
          <p:nvPr/>
        </p:nvPicPr>
        <p:blipFill>
          <a:blip r:embed="rId2"/>
          <a:stretch/>
        </p:blipFill>
        <p:spPr>
          <a:xfrm>
            <a:off x="152280" y="4191120"/>
            <a:ext cx="2954520" cy="20779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0" descr="http://www.olstars.com/images/flags/Big/fr.gif"/>
          <p:cNvPicPr/>
          <p:nvPr/>
        </p:nvPicPr>
        <p:blipFill>
          <a:blip r:embed="rId3"/>
          <a:stretch/>
        </p:blipFill>
        <p:spPr>
          <a:xfrm>
            <a:off x="5691240" y="4191120"/>
            <a:ext cx="2967120" cy="207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0000"/>
                </a:solidFill>
                <a:latin typeface="Times New Roman"/>
              </a:rPr>
              <a:t>New Weapons </a:t>
            </a:r>
            <a:br>
              <a:rPr sz="4000"/>
            </a:br>
            <a:r>
              <a:rPr b="0" lang="en-US" sz="4000" spc="-1" strike="noStrike">
                <a:solidFill>
                  <a:srgbClr val="420000"/>
                </a:solidFill>
                <a:latin typeface="Times New Roman"/>
              </a:rPr>
              <a:t>(Battles of Crecy, Poitiers, and Agincourt)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-360" y="1828800"/>
            <a:ext cx="472428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Battle of Cre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glish Arm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numbered 3-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 many armored knights, mostly peasant soldi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LONGBOWM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48320" y="1828800"/>
            <a:ext cx="449568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Battle of Cre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ench Arm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 times more troo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unted armored knigh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ROSSBOWM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Picture 7" descr="http://s3-eu-west-1.amazonaws.com/lookandlearn-preview/A/A003/A003511.jpg"/>
          <p:cNvPicPr/>
          <p:nvPr/>
        </p:nvPicPr>
        <p:blipFill>
          <a:blip r:embed="rId1"/>
          <a:stretch/>
        </p:blipFill>
        <p:spPr>
          <a:xfrm>
            <a:off x="533520" y="4840200"/>
            <a:ext cx="2466720" cy="197964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9" descr="http://www.military-art.com/mall/images/mc0027.jpg"/>
          <p:cNvPicPr/>
          <p:nvPr/>
        </p:nvPicPr>
        <p:blipFill>
          <a:blip r:embed="rId2"/>
          <a:stretch/>
        </p:blipFill>
        <p:spPr>
          <a:xfrm>
            <a:off x="5791320" y="4438800"/>
            <a:ext cx="1685880" cy="236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Joan of Arc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1920" y="1828800"/>
            <a:ext cx="43434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429- A peasant teenage French girl who hears voices telling her to drive the English from France and crown Charles V King of France, rallies France to vic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y 7, 1429 Joan of Arc leads a French army to victory at the Battle of Orlea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uly 17, 1429 Charles V is crowned King of Fr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year later, Joan of Arc is captured by the Britis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80000"/>
              </a:lnSpc>
              <a:spcBef>
                <a:spcPts val="45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ed in Church Courts for Heresy and witchcraf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80000"/>
              </a:lnSpc>
              <a:spcBef>
                <a:spcPts val="45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rned at the stak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Picture 6" descr="http://www.thethreadsthatbindus.net/joan-of-arc-med.jpg"/>
          <p:cNvPicPr/>
          <p:nvPr/>
        </p:nvPicPr>
        <p:blipFill>
          <a:blip r:embed="rId1"/>
          <a:stretch/>
        </p:blipFill>
        <p:spPr>
          <a:xfrm>
            <a:off x="6303960" y="0"/>
            <a:ext cx="2819520" cy="33829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8" descr="http://schoolworkhelper.net/wp-content/uploads/2011/08/WitchBurningJoanOfArc.jpg"/>
          <p:cNvPicPr/>
          <p:nvPr/>
        </p:nvPicPr>
        <p:blipFill>
          <a:blip r:embed="rId2"/>
          <a:stretch/>
        </p:blipFill>
        <p:spPr>
          <a:xfrm>
            <a:off x="4572000" y="3362400"/>
            <a:ext cx="2743200" cy="352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Impacts of 100 Years of Warfare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0" y="1828800"/>
            <a:ext cx="91440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glish and French Kings Gain Pow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Especially French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tionalism grows in France and Eng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mored knights and Chivalry have been replaced with Peasant armies and Longbowm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bles and Knights lose power and become less important, while Peasants become more importa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England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7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litical changes that would bring an end to Feudalism started in England in the 1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13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enturies (1100’s-1200’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really starts with King Henry II (1154-1189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5" descr="flag"/>
          <p:cNvPicPr/>
          <p:nvPr/>
        </p:nvPicPr>
        <p:blipFill>
          <a:blip r:embed="rId1"/>
          <a:stretch/>
        </p:blipFill>
        <p:spPr>
          <a:xfrm>
            <a:off x="762120" y="3809880"/>
            <a:ext cx="2620800" cy="27338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beefeaters"/>
          <p:cNvPicPr/>
          <p:nvPr/>
        </p:nvPicPr>
        <p:blipFill>
          <a:blip r:embed="rId2"/>
          <a:stretch/>
        </p:blipFill>
        <p:spPr>
          <a:xfrm>
            <a:off x="4495680" y="3876840"/>
            <a:ext cx="3591000" cy="262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imes New Roman"/>
              </a:rPr>
              <a:t>The Decline of Feudalism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762120" y="3765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son #4- The Great Schism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Conflict in the Church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Kings and Popes Compete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-360" y="1828440"/>
            <a:ext cx="4724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ig Incident (1300-130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ng Philip IV (France) says that the clergy in France have to answer to the 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pe Boniface VIII says that kings must always obey pop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ilip the IV has the Pope held prisoner, he is later rescued, but dies shortly thereaft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ower of the Pope over Kings was now completely g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Picture 10" descr="http://www.presentermedia.com/files/clipart/00006000/6545/knock_out_competition_md_wm.jpg"/>
          <p:cNvPicPr/>
          <p:nvPr/>
        </p:nvPicPr>
        <p:blipFill>
          <a:blip r:embed="rId1"/>
          <a:stretch/>
        </p:blipFill>
        <p:spPr>
          <a:xfrm>
            <a:off x="4876920" y="2209680"/>
            <a:ext cx="396216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More then 1 Pope ?!?!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0" y="1828440"/>
            <a:ext cx="50292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e Urban V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sen by Italian Cardinals because he was Itali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ved in R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ommunicated Clement V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343040" y="1828440"/>
            <a:ext cx="48006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ment VI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sen by French Cardinals because he was Fre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ved in Fr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ommunicated Urban V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8"/>
          <p:cNvSpPr/>
          <p:nvPr/>
        </p:nvSpPr>
        <p:spPr>
          <a:xfrm>
            <a:off x="152280" y="4114800"/>
            <a:ext cx="87631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Verdana"/>
              </a:rPr>
              <a:t>There is actually a 3</a:t>
            </a:r>
            <a:r>
              <a:rPr b="0" lang="en-US" sz="1800" spc="-1" strike="noStrike" u="sng" baseline="30000">
                <a:solidFill>
                  <a:srgbClr val="000000"/>
                </a:solidFill>
                <a:uFillTx/>
                <a:latin typeface="Verdana"/>
              </a:rPr>
              <a:t>rd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Verdana"/>
              </a:rPr>
              <a:t> Pope at the same time!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Verdana"/>
              </a:rPr>
              <a:t>Who the heck is in charge of the Church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5" name="Picture 10" descr="http://ts2.mm.bing.net/th?id=I.5015586214708073&amp;pid=15.1"/>
          <p:cNvPicPr/>
          <p:nvPr/>
        </p:nvPicPr>
        <p:blipFill>
          <a:blip r:embed="rId1"/>
          <a:stretch/>
        </p:blipFill>
        <p:spPr>
          <a:xfrm>
            <a:off x="3629160" y="4994280"/>
            <a:ext cx="1809720" cy="18637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2" descr="http://www.italian-flag.org/italian-640.gif"/>
          <p:cNvPicPr/>
          <p:nvPr/>
        </p:nvPicPr>
        <p:blipFill>
          <a:blip r:embed="rId2"/>
          <a:stretch/>
        </p:blipFill>
        <p:spPr>
          <a:xfrm>
            <a:off x="-17640" y="4994280"/>
            <a:ext cx="2876760" cy="186228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4" descr="http://ts2.mm.bing.net/th?id=I.4877460083903545&amp;pid=15.1"/>
          <p:cNvPicPr/>
          <p:nvPr/>
        </p:nvPicPr>
        <p:blipFill>
          <a:blip r:embed="rId3"/>
          <a:stretch/>
        </p:blipFill>
        <p:spPr>
          <a:xfrm>
            <a:off x="6259680" y="4997520"/>
            <a:ext cx="2884320" cy="18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0000"/>
                </a:solidFill>
                <a:latin typeface="Times New Roman"/>
              </a:rPr>
              <a:t>The Great Schism </a:t>
            </a:r>
            <a:br>
              <a:rPr sz="4000"/>
            </a:br>
            <a:r>
              <a:rPr b="0" lang="en-US" sz="4000" spc="-1" strike="noStrike">
                <a:solidFill>
                  <a:srgbClr val="420000"/>
                </a:solidFill>
                <a:latin typeface="Times New Roman"/>
              </a:rPr>
              <a:t>(Split in the Church)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0" y="1828440"/>
            <a:ext cx="678168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64760" indent="-46476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 who is Pop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98560" indent="-431640"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414 The Council of Constance tries to figure this mess o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98560" indent="-431640"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as able to force all 3 Popes to qu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98560" indent="-431640"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 years later they choose a new Pope, only 1 this time, Martin 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Picture 5" descr="http://ts2.mm.bing.net/th?id=I.4657377367556153&amp;pid=15.1"/>
          <p:cNvPicPr/>
          <p:nvPr/>
        </p:nvPicPr>
        <p:blipFill>
          <a:blip r:embed="rId1"/>
          <a:stretch/>
        </p:blipFill>
        <p:spPr>
          <a:xfrm>
            <a:off x="6705720" y="1781280"/>
            <a:ext cx="2438280" cy="341928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7" descr="http://ts2.mm.bing.net/th?id=I.4972640837503209&amp;pid=15.1"/>
          <p:cNvPicPr/>
          <p:nvPr/>
        </p:nvPicPr>
        <p:blipFill>
          <a:blip r:embed="rId2"/>
          <a:stretch/>
        </p:blipFill>
        <p:spPr>
          <a:xfrm>
            <a:off x="1828800" y="4800600"/>
            <a:ext cx="521964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??Questions?? about the Church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51920" y="1752480"/>
            <a:ext cx="8991720" cy="326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427320" indent="-427320">
              <a:lnSpc>
                <a:spcPct val="8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ople start to resent the wealth and power of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273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pe and the Chu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27320" indent="-427320">
              <a:lnSpc>
                <a:spcPct val="8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to question the teachings of the Chu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200" indent="-396720">
              <a:lnSpc>
                <a:spcPct val="80000"/>
              </a:lnSpc>
              <a:spcBef>
                <a:spcPts val="60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o is really the head of the Church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200" indent="-396720">
              <a:lnSpc>
                <a:spcPct val="80000"/>
              </a:lnSpc>
              <a:spcBef>
                <a:spcPts val="60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should the clergy liv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200" indent="-396720">
              <a:lnSpc>
                <a:spcPct val="80000"/>
              </a:lnSpc>
              <a:spcBef>
                <a:spcPts val="60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 common people even really need the clerg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200" indent="-396720">
              <a:lnSpc>
                <a:spcPct val="80000"/>
              </a:lnSpc>
              <a:spcBef>
                <a:spcPts val="60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the way, often times the people who asked these questions were put on trial for heresy and burned at the sta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27320" indent="-427320">
              <a:lnSpc>
                <a:spcPct val="8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of this questions showed that the power and influence of the Church was decl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Picture 5" descr="MCj04344110000[1]"/>
          <p:cNvPicPr/>
          <p:nvPr/>
        </p:nvPicPr>
        <p:blipFill>
          <a:blip r:embed="rId1"/>
          <a:stretch/>
        </p:blipFill>
        <p:spPr>
          <a:xfrm>
            <a:off x="6934320" y="2057400"/>
            <a:ext cx="1628640" cy="182880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7" descr="http://wattsupwiththat.files.wordpress.com/2009/12/decline_graph.jpg"/>
          <p:cNvPicPr/>
          <p:nvPr/>
        </p:nvPicPr>
        <p:blipFill>
          <a:blip r:embed="rId2"/>
          <a:stretch/>
        </p:blipFill>
        <p:spPr>
          <a:xfrm>
            <a:off x="3581280" y="4876920"/>
            <a:ext cx="148608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Impact on the End of Feudalism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ings now had more power than the P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urch is having problems with transferring power, and actually running itsel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on people begin to question the Chu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on people begin to resent the wealth and power of the Chu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Recap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re are 4 main reasons why Feudalism fell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80000"/>
              </a:lnSpc>
              <a:spcBef>
                <a:spcPts val="45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itical Chan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lnSpc>
                <a:spcPct val="80000"/>
              </a:lnSpc>
              <a:spcBef>
                <a:spcPts val="400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d the court system, More rights for the people, more power for the K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80000"/>
              </a:lnSpc>
              <a:spcBef>
                <a:spcPts val="45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bonic Plag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lnSpc>
                <a:spcPct val="80000"/>
              </a:lnSpc>
              <a:spcBef>
                <a:spcPts val="400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ore power for the common people because their labor was even more important n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80000"/>
              </a:lnSpc>
              <a:spcBef>
                <a:spcPts val="45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00 years W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lnSpc>
                <a:spcPct val="80000"/>
              </a:lnSpc>
              <a:spcBef>
                <a:spcPts val="400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rowth of Nationalism, End of Chivalry, Common people continue to gain power and import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80000"/>
              </a:lnSpc>
              <a:spcBef>
                <a:spcPts val="45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reat Schis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lnSpc>
                <a:spcPct val="80000"/>
              </a:lnSpc>
              <a:spcBef>
                <a:spcPts val="400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urch loses power, people begin to question and resent the Chu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 Final Though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80000"/>
              </a:lnSpc>
              <a:spcBef>
                <a:spcPts val="45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ings and Common people were gaining more and more power, while the Nobles and Church were losing 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80000"/>
              </a:lnSpc>
              <a:spcBef>
                <a:spcPts val="45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eople were sick of all this turmoil and really wanted things to chan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76312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0000"/>
                </a:solidFill>
                <a:latin typeface="Times New Roman"/>
              </a:rPr>
              <a:t>King Henry II Changes the Court System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-360" y="1676520"/>
            <a:ext cx="4343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M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ial by Orde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ial by Comb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udal Lords deciding guilt or innocence and punishment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Jury would accu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ople of cri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ses would be tried before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yal Jud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uilt or Innocence would b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more on the facts of the c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Picture 5" descr="jury"/>
          <p:cNvPicPr/>
          <p:nvPr/>
        </p:nvPicPr>
        <p:blipFill>
          <a:blip r:embed="rId1"/>
          <a:stretch/>
        </p:blipFill>
        <p:spPr>
          <a:xfrm>
            <a:off x="4648320" y="3429000"/>
            <a:ext cx="4495680" cy="32576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6" descr="judge"/>
          <p:cNvPicPr/>
          <p:nvPr/>
        </p:nvPicPr>
        <p:blipFill>
          <a:blip r:embed="rId2"/>
          <a:stretch/>
        </p:blipFill>
        <p:spPr>
          <a:xfrm>
            <a:off x="5638680" y="1219320"/>
            <a:ext cx="3124440" cy="237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Henry II Fights With The Church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038480" y="1828800"/>
            <a:ext cx="464832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164- Henry issued the Constitutions of Clarend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45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sted the Rights of the K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45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BIG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one was that if a member of the clergy was accused of a crime they would be tried in Royal Cour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chbishop of Canterbury, Thomas Becket, Objected!!! The clergy should be tried in Church Courts!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45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170 Becket is killed by 4 knight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45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173 Becket becomes a saint, and his tomb becomes a destination for pilgrima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icture 5" descr="Henry II"/>
          <p:cNvPicPr/>
          <p:nvPr/>
        </p:nvPicPr>
        <p:blipFill>
          <a:blip r:embed="rId1"/>
          <a:stretch/>
        </p:blipFill>
        <p:spPr>
          <a:xfrm>
            <a:off x="990720" y="2286000"/>
            <a:ext cx="3006720" cy="398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0000"/>
                </a:solidFill>
                <a:latin typeface="Times New Roman"/>
              </a:rPr>
              <a:t>King John I Makes A Lot of Enemies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ohn I becomes king when his father, Henry II, dies in 119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st most of England’s land in Fr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xed the no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gnored the rights of the no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ght with the chur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avily taxed church lands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4" descr="enemy"/>
          <p:cNvPicPr/>
          <p:nvPr/>
        </p:nvPicPr>
        <p:blipFill>
          <a:blip r:embed="rId1"/>
          <a:stretch/>
        </p:blipFill>
        <p:spPr>
          <a:xfrm>
            <a:off x="5486400" y="3352680"/>
            <a:ext cx="3486240" cy="29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King John I And The Magna Carta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404028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64760" indent="-464760">
              <a:lnSpc>
                <a:spcPct val="90000"/>
              </a:lnSpc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215- The Magna Carta (Great Charter) is signed by King John 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98560" indent="-431640">
              <a:lnSpc>
                <a:spcPct val="90000"/>
              </a:lnSpc>
              <a:spcBef>
                <a:spcPts val="45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bles forced John I to sign the Magna Car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98560" indent="-431640">
              <a:lnSpc>
                <a:spcPct val="90000"/>
              </a:lnSpc>
              <a:spcBef>
                <a:spcPts val="45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ing must ask the nobles before he raises tax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98560" indent="-431640">
              <a:lnSpc>
                <a:spcPct val="90000"/>
              </a:lnSpc>
              <a:spcBef>
                <a:spcPts val="45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l free men must have a t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98560" indent="-431640">
              <a:lnSpc>
                <a:spcPct val="90000"/>
              </a:lnSpc>
              <a:spcBef>
                <a:spcPts val="45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perty cannot just be tak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985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4760" indent="-464760">
              <a:lnSpc>
                <a:spcPct val="90000"/>
              </a:lnSpc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y would King John I sign a document that took away some of his power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98560" indent="-431640">
              <a:lnSpc>
                <a:spcPct val="90000"/>
              </a:lnSpc>
              <a:spcBef>
                <a:spcPts val="45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he did not agree…..He would be overthrown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Picture 5" descr="magna_carta"/>
          <p:cNvPicPr/>
          <p:nvPr/>
        </p:nvPicPr>
        <p:blipFill>
          <a:blip r:embed="rId1"/>
          <a:stretch/>
        </p:blipFill>
        <p:spPr>
          <a:xfrm>
            <a:off x="5214960" y="1828800"/>
            <a:ext cx="2901960" cy="43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King Edward I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295 Edward I started the Model Parliament, to help govern Eng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luded lots of different peo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on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Cler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gh ranking Cler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4" descr="Parliament"/>
          <p:cNvPicPr/>
          <p:nvPr/>
        </p:nvPicPr>
        <p:blipFill>
          <a:blip r:embed="rId1"/>
          <a:stretch/>
        </p:blipFill>
        <p:spPr>
          <a:xfrm>
            <a:off x="4648320" y="3581280"/>
            <a:ext cx="4190760" cy="313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0000"/>
                </a:solidFill>
                <a:latin typeface="Times New Roman"/>
              </a:rPr>
              <a:t>So How Did This Stuff Help End Feudalism?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engthened the power of the K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akened the power of the No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ve more power to Common Peo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gna Carta gave people rights that could not be taken aw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roved Court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 Parliament gave regular people a say in the govern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imes New Roman"/>
              </a:rPr>
              <a:t>The Decline of Feudalism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762120" y="3765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son #2- The Bubonic Plague AKA “The Black Death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ller Christine</dc:creator>
  <dc:description/>
  <dc:language>en-US</dc:language>
  <cp:lastModifiedBy>Christine Miller</cp:lastModifiedBy>
  <dcterms:modified xsi:type="dcterms:W3CDTF">2013-03-22T14:33:42Z</dcterms:modified>
  <cp:revision>10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